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9F09-638C-4670-A0F6-0DDC15BEE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97B3-5592-4EB3-A0FB-8C5D9581B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366A-63E3-4FEA-AAC4-6A02E553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824-ECB9-4B08-9E2F-6534C12A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090-721D-48F4-9C8F-F8822700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9BCB-6294-4F05-AF21-F1F7D4A98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48C-542D-40F2-B86D-03B4F153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339-EC89-430D-BE85-E2AA1F46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F1E-0262-4644-B336-FD9F009A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615-A955-45E0-B45B-6BAA6B86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F5F-B64F-40FE-B3A2-992E437A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836-4765-4239-A6FD-F4705789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844-3329-4FF7-ACCD-C52AB748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456-1229-47CD-AAFC-750E13AA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601E-C927-4ACE-AB54-030944304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4 Apart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assified people in one of two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French sett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d the creation of “homela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till in place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d the support of most European count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4 Apart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assified people in one of two r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French sett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cluded the creation of “homela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still in place in Sou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ad the support of most European count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7_10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5 In the 1920s, this region best exemplified the concept of the nation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5 In the 1920s, this region best exemplified the concept of the nation-s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b-Sahara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outh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6 Which of the following is the best example of a multinational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former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6 Which of the following is the best example of a multinational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The former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7 In which of the following decades was nationalism most evident i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7 In which of the following decades was nationalism most evident i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95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6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8 Which of the following ethnic groups has the least representation in Leban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r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1 African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8 Which of the following ethnic groups has the least representation in Leban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r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hi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n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7_15"/>
          <p:cNvPicPr/>
          <p:nvPr/>
        </p:nvPicPr>
        <p:blipFill>
          <a:blip r:embed="rId1"/>
          <a:stretch/>
        </p:blipFill>
        <p:spPr>
          <a:xfrm>
            <a:off x="2362320" y="60948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9 The basic glue holding Yugoslavia together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essure from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9 The basic glue holding Yugoslavia together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li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Econom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a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essure from the Soviet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10 Since 1991 in the Balkans, the most severe ethnic cleansing has been commit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s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cedon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lov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10 Since 1991 in the Balkans, the most severe ethnic cleansing has been commit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ro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osn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Macedon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e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love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1 African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7_01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2 Hispanic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2 Hispanic Americans are primarily concentrated in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7_02"/>
          <p:cNvPicPr/>
          <p:nvPr/>
        </p:nvPicPr>
        <p:blipFill>
          <a:blip r:embed="rId1"/>
          <a:stretch/>
        </p:blipFill>
        <p:spPr>
          <a:xfrm>
            <a:off x="990720" y="533520"/>
            <a:ext cx="7391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3 The most likely destination for African slave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7.03 The most likely destination for African slaves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e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2-05-10T22:02:34Z</dcterms:modified>
  <cp:revision>84</cp:revision>
  <dc:subject/>
  <dc:title>CRS Chapter 4</dc:title>
</cp:coreProperties>
</file>